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1C84-BD48-490C-9CFE-B511AB133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5473-24C3-4DF5-A9AC-F449B32E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1A82-C939-475D-9F6B-897F306CA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F56A-392E-42D1-93EA-BC54EEEF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E26D-C872-4A8A-BA65-E5EFF2B5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A388-0874-4803-AFFD-4DF6B1F7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64FD-076E-4A3A-97B8-5B002083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7D50-F9B5-4955-B618-1074119A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E691-6796-4FC3-BDB6-6E3541D2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65C3-D57D-4288-8E83-01885146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A5C3-6128-41B6-8E74-23C28A25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5B5B-0530-44C3-A341-62C1F93A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04ED-F2A6-46CC-98FC-5172C3EBA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tage Figh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By: Chris Pena, Jose Monroy, and Shauntaria Gree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tisan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133640"/>
            <a:ext cx="9144000" cy="5724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038480" y="3276720"/>
            <a:ext cx="4800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inks to fight web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ttp://www.safd.org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isto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n the mid-70s when David Boushey returned from studying stage combat in England, he approached the Seattle Repertory Theatre and offered his services as a fight director." David contacted several other individuals around the U.S. that he knew to be involved in stage fighting; among them, Erik Fredricksen, Joseph Martinez, Byron Jennings and Rod Colbin, and the Society of American Fight Directors was bo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y it is importa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o actors and/or audiences are not ha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ith the chorography it makes the fight scenes look real without anyone getting hu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o materials don’t cause harm to the building and its peop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w it effects theat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ore practic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ore safety rules come into eff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new type of genre was created from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rings different types of theater crowd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vies with awesome fight scen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unt of Monte Cristo- 2002 Jim caviezel and guy pie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ator- 1987 Arnold Schwarzeneg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cky-1976  Sylvester Stall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03.jpg image by dumbbab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ight chorogra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even Roy Cole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borah Klens-Big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rc Bluc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Fight Chorographers job descri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artial arts, wrestling, swordsmanship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Various jobs in movies, plays, or self defen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ay for a experienced chorographers is about $41,4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he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hauntaria green- slogan design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Jose monroy- class work editor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hris Pena- power point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20:02:18Z</dcterms:created>
  <dc:creator> </dc:creator>
  <dc:description/>
  <dc:language>en-US</dc:language>
  <cp:lastModifiedBy> </cp:lastModifiedBy>
  <dcterms:modified xsi:type="dcterms:W3CDTF">2009-09-21T19:59:17Z</dcterms:modified>
  <cp:revision>4</cp:revision>
  <dc:subject/>
  <dc:title>Stage Fighting </dc:title>
</cp:coreProperties>
</file>